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0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1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B51-4A29-491D-B075-BFC12C08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8054-77EA-4494-934E-C66053B8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8B066-3687-4F84-BCE2-DF5DF072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9C111-0053-45CA-A34B-4B2E04E0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2D3BA-0D4C-4992-9017-3929B1AD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E7989-E384-48DB-B11B-602B1E38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6013A-3C27-4417-B806-CD569F8F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33403-EA79-466A-B029-0B1FE246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DE1F0-C890-4F54-ABBF-C5443003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130C2-4CF5-46AC-B278-EDC7322C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52B2E-2B56-4CC8-A594-0D78A3C3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9BA44-40BE-4B78-9ABB-A9457E9D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F403-FF0E-4BBF-A652-81162BEB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9E9F2-F1FD-42DA-A8A3-7E0EA060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E5259-64C5-4771-B277-C82AEC85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83D6E-3E72-41E4-8758-68EB8CAD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66B74-F2B5-4069-97E5-3644032B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85D5D-4100-4B7B-8465-B9378042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A5536-5945-42A3-9EDC-447C756C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A6EB4-2F88-46DD-97C2-4F194F08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6E793-4FA2-4F69-8A1E-92F086F0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D246D-E92E-4516-B561-93612AB4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DCB24-C341-47A0-9E57-BCD491B5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4680-B2CD-4B8B-95AC-D359FC08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5587F-C574-426A-AC34-F77920BF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47986-7BF8-4606-A78E-219CFD18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479CB-6F80-4DA4-BA0B-2221EFEB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2E1A3-0F45-44C8-8A09-27B718BB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980CD-ABF2-4357-A4EF-BB76D2D0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401CF-7AD8-4DFF-B227-B3BD3FC4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4C8D7-2B5D-4BE8-AA2F-E3023C57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560EF-FF4B-42DC-BE43-4595F5C2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4C9D0-A3D8-41E2-A039-D0B0DA2A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2EBA7-9DB7-49F6-8F13-BD849F9F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F66F-DFEC-4E4D-A167-EB75330E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0FD99-0E63-405C-A7A4-E1958841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07985-596B-423F-A4E0-B4508B93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91CC2-048D-4464-BB42-2D9FE1D1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9DCB0-5FE3-4B13-8E05-0DD5B082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298EA-CA22-44B7-85DD-E3F58887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55714-19AE-4745-AAB8-511019B7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27D7E-5A9C-43DF-B58A-DE6D672F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6464C-4158-4ADC-BC5B-02B21369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6353C-A6EA-4BCB-8EFE-3576B8F5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D1C11-7EBB-4781-891D-4A09CA4B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15FC-015F-4433-AC90-1B14281E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FBFCB-D2D0-410E-97DD-8A60CEC1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AEB62-0AF1-4A5B-A7F3-BD6458A3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B9CF9-8CE6-4C97-958B-852BE78F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FD7E1-2309-4E32-954B-67B6EDCB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F0A2F-7B28-4853-B50D-01E1E72E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ABD18-B2CC-4C52-B80F-F5278B04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849BA-B787-4EB5-9DA3-C0DC772A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3EC56-9E9E-47B1-862B-1B2CCE70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59A4C-24D2-49F5-8B25-2FD2D441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55FD3-3F2C-4295-991F-30EA35EC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E166-9962-4B35-96D2-C011F6C0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CC69F9-46DD-40FD-98AE-9097B1B9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525C86-D289-4E6D-8972-F29D4EFB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B99B9-779F-4984-99AA-08AC57BE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A3908F-3AC9-4DEF-8835-EE3673C4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B32B9C-BD79-4A41-809D-A6A776CB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CFED9-459C-42F3-AFA2-D2C54230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02331-7E88-4D71-843D-FCE7F576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170D4B-85A3-46B0-A9F9-63FC2CA7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86025-AA14-4AD5-AE7F-0DD4F065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7D2319-069A-4D78-A028-8BA20990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CCB5-6646-428B-8AFF-F5766C30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75CE2B-95F9-44A0-A37F-6BD54782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083E6F-2EE7-4C57-8CEC-E3D2DF03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E8616C-95CE-44F5-89A7-D0C6FA4E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30351-B2ED-451A-A47E-E8BC4901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5974AF-97EC-4532-AEB2-52AC9469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7AC518-9760-4BCF-9722-011727C7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2ACC86-58FA-4761-BB87-84CF6449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BCECA0-5DF1-4C12-88D8-E97BE186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816F8-9752-4AC6-8F98-6FBD8D36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B2FFC5-9B82-4D80-95A3-429C2F4C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49D8-FD9B-45D6-8AD9-AF062B4F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32A6DF-FAFD-44C0-9012-3AA9F4A8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61CA1C-F97D-4553-B919-245A71D8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41322-FFAB-4331-8459-73FDB9CA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87BFB3-9B2F-4AAF-9E1E-80C39615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27A8D1-1FC1-4F04-A290-3E5A775D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77AD5C-DFEF-4C45-A305-0EDF2B03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513DAA-A9FA-492C-A9D9-EED6061F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0524A9-E76C-412F-AE57-D50EB8DF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CDE7B5-C8C9-4D74-BE4C-BEC0ACC9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365F00-0EBC-446D-BE40-94DF1D69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A368-0BA3-43DC-B12D-019BC4E9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FAC391-7CF5-4AFC-A5BE-2F9F64CD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DDABF2-FD70-474B-9F5F-EB08F947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36F5EB-4D50-46E4-8D8C-08BF152C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13FD29-54A5-4CAC-97DD-3C7B764C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4BF345-15EF-4CA1-9DDC-4F993215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F17A0E-88B0-49C5-A54A-8DC2A223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12DE4A-E31B-41A3-806D-2AF1048E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2C4F2D-B151-44FE-87D8-9F1A65E4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2D4378-CA14-4A2D-A656-DA9F03EB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440F70-2B0F-44BE-8032-3772AE5C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CB17-91FB-4EAB-8A88-D05597C3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94872A-A731-4A4B-975A-CFCAE1A3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48B6DE-B709-495C-A874-8E096A0B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F9B1ED-4EDE-4647-B79E-75BE76E2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CABEAA-A403-4BEA-AE95-69EEFB1B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E84013-8EFF-4D3F-912D-136A96CB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6B3CBB-9266-4E88-8BCF-6A8880D1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D858CA-4152-44B1-9CE9-59B5292E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ECED81-9B73-44C7-A283-6564F57E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B965F2-9CCD-4613-9855-9A2EB6FF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61F2E3-7E9F-4AD0-B4A2-D2157AC0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72B-6F86-49F5-96E4-377AFF31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B078-2E9E-4290-AFB0-C6032B7C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BCE67C-702B-4C8A-B6EA-0C0B2245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92604E-5306-4EE4-BE0D-1556AECE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BEB01A-68D9-478D-BBFF-1248169E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41E476-F0DD-463A-9E9E-2A3D3961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1919FE-9258-4C2C-A0D2-C6045BD6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A657E2-8038-4DB0-893D-A2665732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7225CA-0BCD-4FFF-B136-7B177C69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D0DFE0-2F66-49D0-9E2A-8199DF33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A7CE11-74A2-4791-BD5C-A595B89E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E0EBA6-9CBD-4755-9AAB-7A596352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5420-18D0-425F-A85B-6C115A72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603D15-6899-41E0-BC06-3F3D7D77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2AE7EE-45DE-4844-AE4D-27401CDB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C39665-4788-4A80-9C74-EFA37179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4A6212-2F9F-4836-B2F4-74764E7E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478CA0-7076-4848-AB2B-C373EC3E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6DAFD5-F4CD-44C2-A2C5-00C6FA3D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583C29-4D25-4290-9267-2C5697CE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412C31-2049-4F3C-B58D-4A7826C3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33B790-2215-4517-9878-D60D4C72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0C08F0-3A5D-40B3-9C52-E7CCB042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3D16-01A1-4EA5-BD1F-C3C010A9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752ED1-E5AE-4D35-8D24-8AC8347F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B77AD1-DFAE-4667-B3FC-E3585A9E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47ED65-F104-4558-9312-9229AF4B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6D84E5-64C6-4875-88CE-5F8C9560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620C46-28EA-46FF-A4FE-DF6F4DB0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004E62-1DBC-4866-B261-7FB79E33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29CE39-C83D-450E-9F0B-9DA888A6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7C8663-B9EB-42AC-BAE7-90731A98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6B0513-AC37-4702-A3E6-545E076C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07DAC5-6F78-4E05-A2FE-BA090517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4F0D-BC7B-49AF-98C9-B1AAFBF0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0CDF39-E35F-4078-8291-075B3967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074F43-FED4-463B-827B-4990AFFB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BC192A-2CC4-4EB0-B101-44F3F32A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F6E5BB-C70E-4391-A704-058F963B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A2FA18-E027-4A94-BEE9-1E34D46E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416306-EA1C-4E31-ABF2-BC471CA5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3050FF-048B-45CD-B120-4207F9C4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6FAB7A-9792-438E-B635-15D5A2C2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3B03D6-0205-48A6-8225-06625313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4E4228-4B3B-45AC-AB6F-AD8817A1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FF59-2899-45EB-895B-B1D9415F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52FF52-CE7D-4DB5-81E7-ECC9BA3E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B7F6AF-6F72-45C2-B267-9E973ED4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4B0C17-B6DE-4686-ABDB-A393DC33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4800E5-4442-49F2-AB16-BCFE8DF4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5BB361-EA1C-4046-8FED-EA5ED82C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259F46-04E5-4730-8E50-0517ACA9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E9F953-9F4A-44AE-BC17-689310E4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01C72E-5AF5-4642-9CC9-B3E4CFB9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F5EBAE-D951-41B3-9C77-B6683131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AE0F6F-6039-49AD-B314-AD9353EC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6EFD8-E42B-481B-A8B4-EFFBA4A1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BB8BAE-148A-4466-A31B-CB8D1651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6F2065-A38E-4AE9-81EF-61201618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00A20F-7A59-487E-BD13-47B4DF73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743055-69A8-4972-9A92-FA895F68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AC8B6D-377F-4FF9-90B3-81BF1529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ED18CA-5F81-46EB-A6DB-793FF7F1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5A6FD2-BA6F-4D41-910E-A5EF38F1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6545CE-9C26-4898-B90C-7969CD63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95AC1D-A12B-400F-A1AE-F98B6CC0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240EB1-FA45-4C63-918C-889144D7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177AD-D240-4923-9BCC-DE232231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86BE52-EF5D-45B2-9899-70EE189E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0DC186-D4E0-41E0-8012-355733F1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28D6F0-0F21-4CCD-B9BE-0C9EC5C3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145EB5-5768-4D7D-A483-BEF24449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DFACCC-FF7F-4BDC-AA2E-4FA18A14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FC031A-9763-4E1F-8185-1FAF9567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165C9E-E3A5-4766-9FB2-ADAE7947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D8DF23-D82C-4DCF-BF4A-B1862F64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98F62A-5B09-47EC-B6B4-EB8BC998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CD5657-967A-40F1-B264-A31E9923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583FC-22AD-4326-AB62-C0F18A3F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CB70A1-9EA4-45E7-A73A-5ED2C43F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D1537E-BA1C-4794-97B0-066BBEE2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78EBF2-D0D8-432A-9B4A-61ABAC0D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B32F8D-1AC8-498D-BDA9-E640C74D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CF5148-6773-4D75-9303-044A8C02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0DE285-A26A-4D58-90CE-8A547F50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72E0C3-0925-4FAD-A44C-0B016AB6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F140CC-2C38-4A8A-B8D9-315E5A90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517948-4CE3-4B58-85AA-385F0C8F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229B71-4A9F-4748-B8D2-94CAD87A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26CC6-9CF9-4556-AECE-9D3F467F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D47306-9F31-4DF1-9F04-EB0357E3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5CD2A7-892F-45E9-95C5-DFF98D59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728565-B2D7-4083-AFDF-2FC3AD36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C0E68E-22DC-46B8-81EF-369C6110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176141-5634-4341-9F28-11C9B91E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E5F34D-16C7-4EA2-B3E1-7D4F200D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17DAAB-E1A2-4479-A82C-BEA84E3A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19FD39-CAC4-4F07-8303-E2E86EF3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488F05-D2D5-4EE8-B902-438DAD6F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3E0847-4B6C-4119-B985-6F73A8A1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CCC4E-3E6F-4A5A-AF96-6E76E23E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DA52DB-08AB-4C17-89B0-A339CEB1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4ABBC4-FF9A-457D-9D2C-7DA9CAF5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D3DCBF-17F9-4577-BB45-8E86BA93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59A115-0362-4877-AE4F-AD3AE6D7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87B885-6A7A-4C5B-BFD8-E36539EC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563740-0EB1-4CEE-92B6-7B3FC185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559534-FDFD-435A-9619-6C08EBF1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DDD606-80AD-4FAD-A851-3F009FB1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391CAD-7E49-4017-A93C-AD63E82F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F9D1DE-F55B-4FF1-A486-45EC5555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DA2-F29B-460F-9E29-E678C69A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EA9FF-5F05-4DC9-9147-DB6301E0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70FCA2-8022-4F17-965A-1FF20B9C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AF62FE-41B1-434B-9B28-864DB398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5EC900-A2C6-4A1B-8711-1B4DA93C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487F54-ED66-4ACF-ABFD-F8F0CDD5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715F23-FEDB-46EE-BCB5-10528896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5A7980-872A-436D-A627-C29B4E01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2CEDBB-B7F9-4B03-AA4B-49C7D9C9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0D65EB-5C71-4E98-A9C8-47A503A4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0CD973-A71D-419B-880A-2B920E30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1A240D-236D-45C7-9FD2-D1810B0B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1477A-7882-40E5-A693-76BB4D86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CAE214-662C-4AFB-946C-4E9435E5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3C7918-021E-4D63-97E1-436E430A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958A23-6067-41FD-B14B-4396F394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E52770-15BF-437E-87B7-DE4C62C6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FF3905-0505-4B0F-8E83-4291CC1E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4A6B12-46A4-446C-9061-78532CEC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8EFD63-3431-4301-80C4-585F2E74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B744FA-14F6-452C-9A7A-734A724C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527622-68E0-4E34-A7FA-4E9C81E0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10B4DA-6A35-4DAD-8728-70D8CD86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C79CA-9726-41CA-B72B-618D43F8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1D499C-EBCE-486C-8D8F-1EAC285B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A307CB-29BD-4299-AAA3-4145B461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742861-7717-45DB-B1CF-D251B1FF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AFD098-FE34-43C5-B3B4-DBA6A4AE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9D3917-0CA9-4E12-9028-47AE0CD1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ECCABD-665E-402E-9D73-2B2C12BF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C71BCC-1B0C-434E-826C-23AC266E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8A7D4A-49D5-4FF5-804B-09FED38C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4BF806-896D-4A8F-8032-E3C5671B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25A627-D801-4743-B6B1-82525EE3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9BE0B-DCC2-4957-AA4C-69F0DC56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8FA100-EBF5-40AE-8232-E229DE49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904401-B65C-4BE7-B139-5D989F62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5E2593-6C2A-47AD-9367-19223873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06B7A6-1F75-49F8-8477-C0E81DB3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C096D9-9E02-44A0-BD01-7D55EAAA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232134-6F39-4E26-BC75-ECDD4BCE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B0B88E-6AD6-4C74-97ED-B57694F3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AF972D-F81A-41B9-B0C4-C26278AC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0CCF0E-EE1B-447F-903D-26277746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9634B7-0624-45AF-975E-2E578E87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580B7-3FE7-4945-B236-9E0C41B3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CFBDE6-F7EF-43F9-A3C0-C2005A64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177ACC-3F44-468F-923E-3B2F4280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D45000-683C-4728-A924-AF2BD304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44C432-D224-4FCA-9447-C9D45777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9FB161-2D22-49FA-9B42-DC6FC5BF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CDC41F-6372-4BD6-BD65-608D333B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CD9D13-D9BF-4BDC-9B83-B85F24D4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5BA364-00DC-44DC-9631-DA70EC23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00F4CA-86A6-4B66-8275-B4440759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EA4E60-576D-427D-9BDC-276D926B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FF81E-B125-4E00-84BE-C716EB8F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ED4B7E-C789-4C43-8D2F-6BBE0816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F7EFE2-3034-4177-B4B0-B3D28734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193C88-EE8F-499E-891D-C93885C1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F1B717-68D9-4F79-94E3-6CC34842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263857-B354-4D00-9A78-F82894D2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0AB2DB-C943-40C1-B1C8-5A84EE88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526C84-CA2F-420D-8171-77D0EB16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3548B0-F7A9-4EDC-8ECA-789F0B3F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6419AF-A47D-453F-834A-53591470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7A9D7A-5A68-4BDB-8130-B3F45FA5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7652A-F33E-45B6-9F82-E05CF760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8A348E-79DB-4D57-992B-8606F162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D2F825-116B-4BFA-B3EB-01065293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C2F21A-EBC6-4F06-9E69-2575AC42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8BD569-1394-46BF-8FDB-822FF76A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B425C3-FF44-4261-ADDB-A148AB1C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231C07-17BE-4A7C-8783-E33843DE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F86331-1DB2-4F93-B155-1AC4956F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EA3FB1-183A-4A59-B7F3-4196C06D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629549-B8E6-489E-B8A5-74AD3A42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640E7E-D361-4595-A98F-555BEDC2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B10C0-70EF-4991-A73D-EFB286A4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A8C536-4960-4855-A17F-137B624A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28578C-92D4-48EE-81CA-762E8135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15769B-AF1A-49F3-8770-3B434839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FD448F-BFD8-43BA-8BC9-6CA0D3F3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B8C491-2418-44CD-8AC0-40C62213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E20F7A-B064-445C-8781-0FB9E655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B68629-E72C-4B35-A321-B254E27E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986808-5412-402A-8AC6-DF986D0D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B93EB1-3044-4E7B-8386-D7D3266F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974F081-59FB-4921-BAC3-0F210A71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DDA28-6812-45D4-9BA1-9550DAC3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3DE160A-54F7-4C26-A545-A7136CE2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6A9CD2-7246-4E65-9F47-EC955237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49793A-609E-4752-A51A-0DD3463A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DDE322-C9D0-4403-9530-47CDC889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DEF4C7F-8269-46E6-A5F2-68668532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C40195-F3B3-416F-A9B1-A92889D3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7F5D42C-5ED3-4AA7-A680-F05A2B62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C835822-A66E-45C3-9016-047FFDEA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F65BD71-36CA-42FF-9C0F-10897ABB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2358D31-42F3-436F-8178-FA0C009D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C6E8F-7165-42B4-9848-60C21CB0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47A1308-8847-4A28-8646-7AA06613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4D9CA1-E2ED-44F6-8458-6BAB04CE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8D53500-68C6-4F7F-B39C-55F8656F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6EE364D-5A10-429E-821B-9FBC0023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73A00B5-9BFA-45C8-B3BD-88425BFF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7D98FF-3BED-46BD-88A7-3EA8E1F0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A102B7-E41C-405C-BC88-3877882C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6949498-6DE4-427D-BB19-2502D004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6B86E8-0822-4EDD-84C4-D17DF50A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6888437-AEB8-4B55-A432-ABE3088B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7151-0F5F-4DC4-822E-12F38BE0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1DA93-841D-4758-81D5-849FF5FD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40ED276-5D80-4370-83A5-F2F87B75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62CF76-EAD4-410B-A28C-4068CDB1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533658-6195-48F5-AEAC-CBA71705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C2B58D-748D-4203-A207-721433E4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AA36A73-A92B-46A9-A730-FDE9711F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FF52F8-3B14-4229-8AA3-F144541B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68BEB43-4DA6-4753-A978-A3DAA990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223D29-7853-480A-8C77-85561B02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50DB12-C7AD-446F-A6F5-35B5873F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EE1042-7C25-4558-A577-22C48B35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561E8-C628-49E1-8D32-45E34EB8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84B398-7DF1-4FE1-9C12-3BC0AC55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8EDC182-1723-4F5B-8438-F48C4A95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F6B3AB4-CD69-4A67-A184-4961070A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A4FB2BA-DEBF-46FD-B0F2-957B218F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57F94E-633F-4178-8D16-82C24397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C410077-8ABC-48FB-8697-3F13B158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FFAEC34-1282-4720-B4B6-8629E2C1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65E6E2-AFA4-4807-A8F2-8A812C77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A89886F-8715-4859-9868-08378CAF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D7934B3-2330-45D7-87E5-D98D77BB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A162E-9C37-4EF0-863A-83654151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B7A796E-19DF-4493-934C-AA2355FE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6214AA1-46DE-47BF-BCE1-CF66A375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4539C18-6682-4415-91F4-0AADF27B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1D0ADF7-9531-41CC-A71E-018907E9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ED17053-E39C-4FAB-B9F9-7AA4A17A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0AF5443-1833-4C65-97A6-D59ED277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8347366-6D1E-45A0-AD20-AAE9CBA5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B393DB-62E2-4654-ACB8-F5CAAE28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2F91B93-DA40-4EE0-A8C1-20B35785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0B72F35-F1A2-4D45-AA63-55FB4EAC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A3FAB-E07E-44F6-A013-F62EDDA4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CADC846-BA5B-4157-9007-1EA58186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592E55F-B4A9-493B-98C8-F0ED004D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3D68363-FBDA-46B1-9A9B-9BEB9A17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5F776-6E53-4705-9962-9E665FCF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D7ACA-AE05-4474-A701-4D9FDE3A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20B84-4C90-4ABE-824D-4FFEA53A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72411-5BB7-48DB-A1EE-7C48955E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21EF3-6371-43F6-9117-B67D80B6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1B410-71E6-4506-A221-25BEB163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314-0113-45E5-81B3-BFCA7E45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6DE31-A51B-4190-863D-D6E5A835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4A756-F239-4455-8F37-2AC416C2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5CAE7-1195-4B51-A395-57BC186C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22AC8-E5E0-4E58-93C0-C96714AB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D0A07-DE8E-4EAA-9D2F-91557365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9369C-2566-4CFC-B458-C2D2224B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AF03D-D545-438B-A8A3-1CDF175B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FFDF6-CCB3-48C4-A75A-F38DC41C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97BC0-113D-429C-8A44-F0778E2B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4F8FC-27A1-4747-87F3-7C6F3A47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FCD-D2BC-49D5-9D9A-DFAC4EBA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E652A-B99E-419D-89D5-B7491FDE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6B95B-6580-454F-8A40-12D2BB15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C4339-6E2F-4DFA-911B-D9AF5845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A06F6-E6D8-45B2-AE90-A94DE55E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D26BF-5C5D-4749-A9B6-2A835289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21E79-4CEB-49EB-842D-09001D9E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4CC11-EF72-4AD7-AB56-9540460A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95035-E930-46D8-8F25-056C7B8A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0AFA0-9C85-423D-8CF0-82AD3260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67DCC-88D4-4761-8FEE-9461479E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247-57AD-437E-8369-932ABF7D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DE362-66E5-4FC2-B4E6-00DDF4B8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A605C-B06E-4587-BC1F-F3257A0A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2AF5B-6932-43C9-A456-58D07725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20D25-B40A-4E64-AAEE-F7FA70AB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40CA6-B385-4EC3-9700-D186A58B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D2140-82EA-4F90-9332-2BF8376C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7032C-B81D-49CB-AF44-CEAF2F2C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9046B-2A3B-46AC-AE00-52B0DF13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C7D3A-D34B-4008-BC97-8D7894C1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2EEAE-0401-4AFD-8B95-92B77ECE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C74-9054-432A-82DB-65C83141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0E291-F9AE-4130-80C5-5811AF62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E522F-44C5-4D5D-A657-06C680D5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D0264-A91D-482D-BC15-2708B9BC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A9E32-68FA-44E5-A254-1F9821A6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5D80F-28A0-4A46-929E-F0FF6C55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408D8-8F86-4B9D-A6BD-AA66B767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B879A-95CD-4BD9-BF70-6362964C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C02AE-820E-4390-93AD-93439661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265E3-6E4E-4245-86D6-25926FDF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33234-2334-46C9-9A6A-8B7B27C0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66AB-478D-4043-B44B-7A8F9190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62FDC-9970-4AFF-930B-F7A4F849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6A433-68B8-47C1-8619-1F3D647F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69AA7-46BC-468B-A4CE-66C816EB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DF851-AA06-49E0-8EAA-F6506731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BE952-0D67-4251-A391-563F6394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76E84-BA39-4893-B13E-CAF86343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07981-176C-47B2-AB57-C17DEF3F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62694-950C-4822-B767-C7F10F90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702D5-C066-4E19-840C-8D22D65E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7B1DF-F32D-48A2-B1A4-B6E107E5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35E0-042F-4528-9E1E-54FCD79EC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319A-7619-46B6-BBEF-67FDFED96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47AD-690D-47F6-9608-E27046870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18BC-3D18-4E86-842C-DDCA8FA50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F970-6E5E-47A5-8210-4D6C4BCC0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6E6A-0CFE-40B1-8B5B-CBE1A5897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7E1F-F515-4040-86F6-0F20FC0DB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A06B-4F9B-46CD-8291-D9A43311F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3BAC-7DCA-4600-9807-F95855B75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1B25-1162-47B9-9E0A-3DEC91CF0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A56E-AD5F-4B43-B055-6A327F8FE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55C7-3139-47C6-A7E7-C904A0A00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3AAE-F25C-46BF-864E-B41111D31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0470-A416-40E6-ABAE-B95A95C19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4D6D-70FD-421A-849B-69D27D316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F295-1404-422A-A764-EB116B7EA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4155-CD6D-4F5D-AE64-6D025DAA2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737E-159B-45EF-ACFF-D3A86665E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F736-DAEF-4840-A06F-786228589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EE76-E5A5-4CE8-A83D-527688647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0C77-657C-4287-8031-9D8AF157C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FAAD-FD35-40FC-AB9F-3D2270D16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B90A-1754-43F7-ADF2-88AFC344D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1506-9D4C-41CA-BD9D-AEC6AEF9A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36AF-7D9A-46C8-8F8B-6BA2F238D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8C25-F5F0-46E5-8C60-0D6D4E132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06C8-8710-4129-80EE-785729994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550F-7815-42D1-845A-0FEC610F1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BCA6-08BF-4CB7-A429-333D0F5CC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648E-E8BF-47B4-B18D-0E51F9DD6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F39F-E2F1-446E-8D1B-44BA4BD9E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B008-0D72-4333-AD6D-1BB6C6A0A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3FAA-E7A6-4830-8966-6385D34DA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647E-ABDE-40CA-BDAD-BD25C1FD0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9758-AB7D-4629-80FC-D031B53A3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2395-4BCB-4165-9CFA-9788C5CC4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4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10.2: Evaluating Radical Expression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6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What about simplifying higher index roots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6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9x *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7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rad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 radical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radical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adical expressions using a calc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All about radical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x equ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you find that 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mb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√ is calle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d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ymb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no additional markings, it symbolizes square r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ever, when any number, symbolized here as n, preceeds it, it can be a higher root (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√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Properties of radical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not take an even root (square root,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ot, etc.) of an negative number. 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mbol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a is used to describe the nth root of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is called the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s called the radic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Using your calculator to find roots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√a can be rewritten as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can be keyed into the calculator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^ (1/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y the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√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√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√-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he product theorem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ab=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a *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y the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5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16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he quotient theorem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0" name=""/>
          <p:cNvGraphicFramePr/>
          <p:nvPr/>
        </p:nvGraphicFramePr>
        <p:xfrm>
          <a:off x="1066680" y="2743200"/>
          <a:ext cx="1352520" cy="200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743200"/>
                    <a:ext cx="135252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2" name=""/>
          <p:cNvGraphicFramePr/>
          <p:nvPr/>
        </p:nvGraphicFramePr>
        <p:xfrm>
          <a:off x="1905120" y="4572000"/>
          <a:ext cx="1466640" cy="165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4572000"/>
                    <a:ext cx="14666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4" name=""/>
          <p:cNvGraphicFramePr/>
          <p:nvPr/>
        </p:nvGraphicFramePr>
        <p:xfrm>
          <a:off x="4191120" y="2286000"/>
          <a:ext cx="4429080" cy="2847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91120" y="2286000"/>
                    <a:ext cx="44290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Multiplying Radical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either simplify then multiply or multiply then simpl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5 * √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* 2 =10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0 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ever, sometimes you will be left with something under the radical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a * √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√3*3*2*a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3a√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ry a few..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* √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ab * √6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8:03:58Z</dcterms:created>
  <dc:creator>nuhs</dc:creator>
  <dc:description/>
  <dc:language>en-US</dc:language>
  <cp:lastModifiedBy>nuhs</cp:lastModifiedBy>
  <dcterms:modified xsi:type="dcterms:W3CDTF">2007-11-16T21:36:45Z</dcterms:modified>
  <cp:revision>7</cp:revision>
  <dc:subject/>
  <dc:title>10.2: Evaluating Radical Expressions</dc:title>
</cp:coreProperties>
</file>